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A320-703E-440E-9BB2-0498F8776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1C20-E0D6-4EB1-A5E1-6B0D1A8D5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44F6-0360-4D46-8954-6538FC5ED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EF1F-1BCA-4C44-BDB0-B863C9D66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7D443-0A34-42D9-9C95-F9520F94B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CE685-708D-42FD-9C8B-333F5C290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EEA45-E133-49FF-9218-1ECC210C4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F9D93-2592-4E2B-B95D-A4574E057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C767B-B582-4262-B6F9-D7BF1D6FF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DF41C-19F0-45DE-BFF9-160B5B0F8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5D8E0-5DEB-4523-83D7-3BC8C2A83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1711-D1D4-4089-BA70-4517892BC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FCC87-27F7-429B-8DEE-B956D5D17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BC1B5-5DA9-4A27-ACCA-3704BBDD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77EAC-EB07-441F-A817-AF49FD085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A0460-7F4E-430B-9E50-E03567801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762F6-9196-4BE1-8CD0-20379FBEF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64C0-7A95-4BB5-8ECE-517AB0945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2F6B-57E1-49EE-8060-D06E3A8F9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9910-C79E-47BC-A079-7ED2E7A90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40D9-7FE8-4DB4-BFE7-4B16E23F9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7A8E-52B3-45E6-9219-407E99DF2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5E46-4165-49B9-BA2E-F70DF703C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751A-AC17-4508-8755-FCE60F7E2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E2EE7-0409-4FCD-A68F-CD09014FEF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F4AF2-B036-49FD-B2B7-B44F570574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contracostazt.org/background.php" TargetMode="External"/><Relationship Id="rId2" Type="http://schemas.openxmlformats.org/officeDocument/2006/relationships/hyperlink" Target="http://www.cpedv.org/stats.html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Addressing</a:t>
            </a:r>
            <a:br>
              <a:rPr sz="5400"/>
            </a:b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Domestic Violenc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izabeth W Bierer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Zero Tolerance Projec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ervised Visi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ELTA Pro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vent first time domestic viol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ants to encourage arr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fe and Bright Fu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http://contracostazt.org/documents/posters.pdf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648320" y="1295280"/>
            <a:ext cx="41148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iginated as a volunteer crisis line in 1977 (CA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came Battered Women’s alternatives with addition of resources/shelt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rted opening shelter centers (emergency and transitiona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garet Lesher Housing and Employment Cen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llie Mullen Cen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w has offices in all regions of the count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tioch, Richmond, Pittsburg being the newest in 2002/20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60 Staff and 150+ volunte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30592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ore on STAND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l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ining to people who are abused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ment programs to people who abuse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ventive education programs to youth, children and adults who might experience abuse in the futur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y Projec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quired Domestic violence posters and referral cards from STAND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tributed them to residents with clinics outside of Martine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Martinez, placed them in the Family Medicine clinic bathroom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tributed referral cards to several residents (I have more, and will be getting more!!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tinuing my projec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tting STAND! to give a presentation to our staff – Physicians, Nurses, Social work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ome more cognizant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creen my patients, and recognize features suggestive of viol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miliarize myself with Healthy People 2010 initia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ealthy People 2010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ies have demonstrated a link between intimate partner violence (IPV) and 8 out of 10 the Leading Health Indicators (LHI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PV significant risk factor f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ronic health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daches, GI problems, depression, anxiety, sleep problems, PTS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lth risk behavi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stance abuse, irresponsible sexual behav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Leading Health Indicators and Intimate Partner Violenc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lu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weight and obes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bacc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stance ab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xual behav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tal heal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jury and viol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muniz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ess to health c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ues to violen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s you may consider askin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oes your partner act extremely jealous of others who pay attention to you, or use jealousy to justify his/her actions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trol your finances, behavior and even whom you socialize with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reaten to kill you or commit suicide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ke you afraid by using looks, actions, and gestures like smashing things, destroying your property or displaying weapons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ke all the decisions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op you from seeing or talking to friends, family or limits your outside involvement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ct like the abuse is no big deal; it's your fault or even denies doing it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reatens to kill your pets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uts you down in front of other people, humiliates you, plays mind games and makes you feel as if you are crazy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vents you from getting or keeping a job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akes your money or does not let you know about or have access to the family income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lame drugs or alcohol for his violent behavior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reatens to take the children away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omewhere we can all star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natal car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ose who are victims of IPV are less likely to access healthcare, but this is a time they do access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iolence in Pregnanc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omicide is the second leading cause of traumatic death for pregnant and recently pregnant women in the U.S., accounting for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1 percent of maternal injury death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omen experiencing abuse in the year prior to and/or during a recent pregnancy are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40 to 60 percent more likel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than non-abused women to report high-blood pressure, vaginal bleeding, severe nausea, kidney or urinary tract infections and hospitalization during pregnancy and are 37 percent more likely to deliver preterm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hildren born to abused mothers are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7 percent more likel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to be born underweight and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ore than 30 percent more likel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than other children to require intensive care upon birth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ew doctors screen their patients for abuse, even though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p to one in 1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pregnant women are battere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omen who were screened for abuse and given a wallet sized referral reported fewer threats of violence, assaults or even harassment at work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omestic Violen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libe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tern of controlling and assaultive behavi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ffort to gain power and maintain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oa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na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reening all my prenatal patients at least once while following them during their pregna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e residenc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t an area on the prenatal record that indicates we (not Healthy Start) have addressed it in prenatal care at least o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amily Medicine Practi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are our patients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urge everyone to remind yourself t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reen patient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lk with them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 them the information they need to prevent, treat and escape a harmful sit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reatment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nger Management for Families - Center for Human Dev.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391 Taylor Boulevard, Suite 120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leasant Hill, CA  94523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925) 687-8844 Ext. 224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sian Pacific Psychological Services - Richmond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3905 MacDonald Street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ichmond, CA  94805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510) 233-7555 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omestic Violence Support Group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3919 Roosevelt Ave.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ichmond, CA  94805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510) 233-8595 Information  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omestic Violence Treatment Program - Alpha Family Services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31 Raye Avenue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Oakley, CA  94561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925) 625-9318 Confidential Line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Familias Seguras - ECMHP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4101 Macdonald Avenue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ichmond, CA  94805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510) 412-9200 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Korean Community Center of the East Bay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4390 Telegraph Avenue, Suite A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Oakland, CA  94609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510) 547-2662 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eace Creations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2960 Camino Diablo, Suite 200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alnut Creek, CA  94597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925) 988-9505 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OCOVI - Centro de Educacion Familiar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474 Valencia Street, Suite 150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an Francisco, CA  94103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415) 552-1361 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iley Center - Community Office - St. Vincent De Paul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3543-18th Street, # 4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an Francisco, CA  94110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415) 255-0165 Crisis line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aving Our Sons and Daughters - Concord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3039 Willow Pass Road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ncord, CA  94519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925) 432-4200   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aving Our Sons and Daughters - Pittsburg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3330 Loveridge Road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ittsburg, CA  94565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925) 432-4200   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aving Our Sons and Daughters - Richmond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598 Nevin Avenue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ichmond, CA  94801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510) 215-0130 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egal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ay Area Legal Aid - East/Central County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01 Railroad Avenue, Suite D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ittsburg, CA  94565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800) 551-5554 Toll free Advice Line 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ay Area Legal Aid - West County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25 Macdonald Avenue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ichmond, CA  94801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510) 233-9954 Offic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omestic Violence Restraining Order Clinic - Pittsburg - STAND!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**CONFIDENTIAL***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ittsburg, CA  94563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888) 215-5555 Crisis hotline 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omestic Violence Restraining Order Petitioners Clinic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ichmond Superior Court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0-37th Street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ichmond, CA  94805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510) 965-4048 Clinic 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omestic Violence Restraining Order Respondents Clinic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ichmond Superior Court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0-37th Street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ichmond, CA  94805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510) 965-4048 Clinic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egal Advocacy Program - STAND!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**CONFIDENTIAL***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ncord, CA  94524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888) 215-5555 Crisis hotlin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helter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ian Women's Shelter (AWS)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543-18th Street, Suite 19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n Francisco, CA  94110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877) 751-0880 Crisi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mergency Shelter - STAND!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**CONFIDENTIAL***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cord, CA  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888) 215-5555 Crisis hotlin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omeless Assistance Program - CCCEHSD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00 Ellinwood Wa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easant Hill, CA  94523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925) 602-9379 Pleasant Hil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Korean Community Center of the East Bay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390 Telegraph Avenue, Suite A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akland, CA  94609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510) 547-2662 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a Casa de Las Madres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63 Mission Street, Suite 225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n Francisco, CA  94103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415) 503-0500 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ley Center - Brennan House - St. Vincent De Paul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**CONFIDENTIAL***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n Francisco, CA  94110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415) 255-2894 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ley Center - Rosalie House - St Vincent De Paul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**CONFIDENTIAL***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n Francisco, CA  94110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415) 255-0165 Crisis lin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afe At Home Confidential Address Program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00 11th Stree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cramento, CA  95814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877) 322-5227 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helter Against Violent Environments, Inc. (SAVE)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9155 Liberty Street, Suite C310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emont, CA  94538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510) 794-6055 24 hour Crisis Hotline 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ister Me Home Safe House - Building Futures for Women &amp; Children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85 Bancroft, Suite 13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n Leandro, CA  94577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866) 292-9688 866-A-WAY-OUT 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ri-Valley Haven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663 Pacific Avenue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ermore, CA  94550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800) 884-8119 Toll-Fre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ultiple Service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itri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34 East Gish Road, Suite 200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unnyvale, CA  95112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888) 862-4874 (888) 8 MAITRI 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arika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O. Box 14014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erkeley, CA  94712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800) 215-7308 Helplin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Korean Community Center of the East Bay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390 Telegraph Avenue, Suite A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akland, CA  94609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510) 547-2662 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a Casa de Las Madres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663 Mission Street, Suite 225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an Francisco, CA  94103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415) 503-0500 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AND! Against Domestic Violence - Central County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410 Danzig Plaza, 2nd Floor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ncord, CA  94520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888) 215-5555 Crisis Hotline 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AND! Against Domestic Violence - East County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400 Sycamore Street, #6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tioch, CA  94509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888) 215-5555 Crisis Hotlin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AND! Against Domestic Violence - West County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2230 San Pablo Ave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ichmond, CA  94805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888) 215-5555 Crisis Hotlin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ero Tolerance for Domestic Violence </a:t>
            </a:r>
            <a:r>
              <a:rPr b="0" lang="en-US" sz="20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contracostazt.org/background.ph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ifornia Partnership to end domestic violence (CPEDV) </a:t>
            </a:r>
            <a:r>
              <a:rPr b="0" lang="en-US" sz="20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http://www.cpedv.org/stats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mily Violence Prevention Fund http://www.endabuse.org/content/action_center/detail/75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mily Violence Prevention Fund Facts on Reproductive Health and Violence against women http://www.endabuse.org/userfiles/file/Children_and_Families/Reproductive.pd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D! Against Domestic Violence http://www.standagainstdv.org/aboutdomviolence.ph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fe Network http://www.safenetwork.net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11 Database http://www.irissoft.com/cccc/search.as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Abu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ys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sycholog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xu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bal/emot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conom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anc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g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isk Facto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ver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employ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stance ab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meless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osure to other violence in the commu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ORTANT: knows NO bound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ational Statistic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n average, more than three women are murdered by their husbands or boyfriends in this country every day.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Bureau of Justice Statistics Data Brief, Intimate Partner Violence, 1993-2001, February 2003).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rty seven percent of women who sought treatment in an emergency room for violence-related injuries were injured by a current or former intimate partner.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U.S. Department of Justice, Violence by Intimates: Analysis of Data on Crimes by Current or Former Spouses, Boyfriends, and Girlfriends, March 1998).</a:t>
            </a:r>
            <a:br>
              <a:rPr sz="10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buse in relationships exists among all classes, races and cultural groups, although women between ages 16 and 24 are nearly three times more vulnerable to intimate partner violence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Intimate Partner Violence &amp; Age of Victim, U.S. Department of Justice, Bureau of Justice Statistics, 1999).</a:t>
            </a:r>
            <a:br>
              <a:rPr sz="10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recent National Crime Victimization survey found that women were 6 times more than men to experience violence at the hands of an intimate partner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cpedv.org/stats.htm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alifornia Statistic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very year, almost 6% of California ’s women suffer physical injuries from domestic violence.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California Women’s Health Survey, 1998-99).</a:t>
            </a:r>
            <a:br>
              <a:rPr sz="10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 2002, 153 murders were the result of intimate partner violence in California .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California Department of Justice [DOJ], Criminal Justice Statistics)</a:t>
            </a:r>
            <a:br>
              <a:rPr sz="10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 2002, 128 women in California were killed by their husbands, ex-husbands or boyfriends, and 25 men were killed by their wives, ex-wives or girlfriends.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DOJ, Criminal Justice Statistics Center )</a:t>
            </a:r>
            <a:br>
              <a:rPr sz="10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alifornia law enforcement received 196,569 domestic violence calls in 2002 --- 119,850 involved weapons, including firearms and knives.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DOJ, Criminal Justice Statistics Center )</a:t>
            </a:r>
            <a:br>
              <a:rPr sz="10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bout 916,000 children were exposed to intimate partner violence at home in 1998.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Department of Health Services, California Women’s Health Survey, 1998-99).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arly 1 in 5 women who went hungry because they did not have enough money to buy food was also a victim of intimate partner violence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Department of Health Services, California Women’s Health Survey, 1998-99).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cpedv.org/stats.htm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tra Costa Count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at risk cities in the three regions (east,west,central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chmo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io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o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racking syste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fice of the Sheriff maintai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omated Regional Information Exchange System 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I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” database and th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estic Violence Relational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nked to vital criminal justice recor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 be accessed by multiple agenc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creasing investigative capac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ks active warrants, restraining orders, case disposition, terms of parole, injury specif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ess more info at: www.cocosheriff.o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Zero Toleran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gram created in 2000 to address domestic, family and elder abuse/violence in Contra Costa Coun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Zero Tolerance county in California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s and delivers direct services to people through partnershi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vances policy 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laborate with, amongst many, STAND! against domestic viol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Zero Tolerance for domestic violence"/>
          <p:cNvPicPr/>
          <p:nvPr/>
        </p:nvPicPr>
        <p:blipFill>
          <a:blip r:embed="rId1"/>
          <a:stretch/>
        </p:blipFill>
        <p:spPr>
          <a:xfrm>
            <a:off x="2209680" y="457200"/>
            <a:ext cx="581040" cy="8859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Zero Tolerance for domestic violence"/>
          <p:cNvPicPr/>
          <p:nvPr/>
        </p:nvPicPr>
        <p:blipFill>
          <a:blip r:embed="rId2"/>
          <a:stretch/>
        </p:blipFill>
        <p:spPr>
          <a:xfrm>
            <a:off x="638280" y="457200"/>
            <a:ext cx="157140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3T22:06:15Z</dcterms:created>
  <dc:creator>Lizi</dc:creator>
  <dc:description/>
  <dc:language>en-US</dc:language>
  <cp:lastModifiedBy>Lizi</cp:lastModifiedBy>
  <dcterms:modified xsi:type="dcterms:W3CDTF">2009-01-06T05:20:38Z</dcterms:modified>
  <cp:revision>8</cp:revision>
  <dc:subject/>
  <dc:title>Domestic Violence</dc:title>
</cp:coreProperties>
</file>